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A246-E48E-48C1-85B8-2F6A4E7F0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426A-795A-4E82-BDBF-273F6EBC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D4A8-783F-4B60-8A42-01E802D63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B2EE-CFA6-41BC-8D3F-13E2D0552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95B9-57C2-4648-9C25-A39DB723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EE47-2CC8-401E-81EB-EBB06A0E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4BA3-C9F6-4322-AEBC-3CAC22AA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EE5C-2302-4B76-9E37-2FA0CD3C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84D2-13AD-4608-B4DD-E45177AD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9CDA-9225-4E8D-9B9A-F0FFAB8D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44DD-C223-4271-8725-B64E2E2C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4530-7D5B-4740-A78C-6AC9BBF0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0A16-782F-487F-B39C-7D89E0169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Schedule.pdf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hildrenofthecode.org/Tour/c1/index.htm" TargetMode="External"/><Relationship Id="rId2" Type="http://schemas.openxmlformats.org/officeDocument/2006/relationships/hyperlink" Target="file:///Minutes%201-13-10.pdf" TargetMode="External"/><Relationship Id="rId3" Type="http://schemas.openxmlformats.org/officeDocument/2006/relationships/hyperlink" Target="http://mwsdlitteam.wikispaces.com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mwhssitteam.wikispaces.com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772400" cy="116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rriculum &amp; Technolog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oard Report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uary 26, 201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4771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step in reforming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experience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ng people is to re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rning experi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e adults responsible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ng people’s education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land S. B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porting Data – Middle Schoo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11"/>
          <p:cNvGraphicFramePr/>
          <p:nvPr/>
        </p:nvGraphicFramePr>
        <p:xfrm>
          <a:off x="730080" y="1600200"/>
          <a:ext cx="768384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1600200"/>
                    <a:ext cx="76838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12" descr="4sightlogo"/>
          <p:cNvPicPr/>
          <p:nvPr/>
        </p:nvPicPr>
        <p:blipFill>
          <a:blip r:embed="rId3"/>
          <a:stretch/>
        </p:blipFill>
        <p:spPr>
          <a:xfrm>
            <a:off x="7086600" y="5105520"/>
            <a:ext cx="1085760" cy="5810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porting Data - Elementar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Object 10"/>
          <p:cNvGraphicFramePr/>
          <p:nvPr/>
        </p:nvGraphicFramePr>
        <p:xfrm>
          <a:off x="650880" y="1600200"/>
          <a:ext cx="7866000" cy="455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0880" y="1600200"/>
                    <a:ext cx="7866000" cy="45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porting Data - Elementar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4"/>
          <p:cNvGraphicFramePr/>
          <p:nvPr/>
        </p:nvGraphicFramePr>
        <p:xfrm>
          <a:off x="457200" y="1676520"/>
          <a:ext cx="8229600" cy="437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229600" cy="43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" name="Picture 5" descr="4sightlogo"/>
          <p:cNvPicPr/>
          <p:nvPr/>
        </p:nvPicPr>
        <p:blipFill>
          <a:blip r:embed="rId3"/>
          <a:stretch/>
        </p:blipFill>
        <p:spPr>
          <a:xfrm>
            <a:off x="7162920" y="5105520"/>
            <a:ext cx="1085760" cy="5810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2666520"/>
            <a:ext cx="65534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e of the most important observations I have made is that student interest increases every time I use the SMARTBoard.”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2666520"/>
            <a:ext cx="65534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rents have access to exactly the same lesson that occurred in class that day.”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push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3880" y="2666520"/>
            <a:ext cx="65534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am able to plan my entire lesson on the slides so I don’t have to write anything on the chalkboard, I just advance to the next slide.”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2666520"/>
            <a:ext cx="65534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the first time, students have access to the actual lesson from home.”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push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560" y="27428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udents are more involved…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kids pay attention so they can participate.”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push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30477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st lessons are pulled up quickly.  When I write on the chalkboard it disappears at the end of the day and is gone forever.”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2666520"/>
            <a:ext cx="65534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ven the students who tend to daydream don’t because it is so interactive.”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ebruary 12, 201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fessional Development Da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igh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T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P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artment Meetings (Middle/High 6 - 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Apprenticeship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ll be facilitated by teachers who participated in Reading Apprenticeship training at BLAST 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880" y="2666520"/>
            <a:ext cx="65534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e of the things I love is the fact that I never lose student work or my work.  With the SMARTBoard you can always refer back to something you’ve done earlier because the pages are still there.”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push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2666520"/>
            <a:ext cx="65534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tivation is high enough that even discipline is positively affected.”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push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2666520"/>
            <a:ext cx="65534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l the lessons I write on the board can be immediately printed for students to take with them.”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push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2666520"/>
            <a:ext cx="65534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udents are more engaged and interested.  This in turn adds to their ability to process and gain knowledge.”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push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2666520"/>
            <a:ext cx="65534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can provide so many more examples.  The resources are endless.”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push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2666520"/>
            <a:ext cx="65534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udents learn by viewing, listening, and interacting even more than before.”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push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28191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can cover more content, because I spend less time writing on the board in preparation for the lesson.”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push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2666520"/>
            <a:ext cx="65534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nds-on involvement improves retention.”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ebruary 12, 201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fessional Development Da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iddle Sch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Meeting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artment Meetings (Middle/High 6 - 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Apprenticeship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ll be facilitated by teachers who participated in Reading Apprenticeship training at BLAST 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ebruary 12, 201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fessional Development Da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est Beaver Elementary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iddleburg Elementary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erry West Perry Elementary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T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Improvement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ebruary 12, 201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fessional Development Da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teracy 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improvement and/or data teams with building groups first 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Apprenticeship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lights of January Literacy Team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Prior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ary Wr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ussion and exploration of different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iteracy Te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meeting held on January 13,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+ participants across various content a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Louisa Moats vid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c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do we need to b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Non-negot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Our Wi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igh Schoo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chool Improvement Team (SIT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Go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 student performance: Make A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 school spirit and morale among students and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 atten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 community/school re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nth Grade Fo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icula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lish/Re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iness/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IT Wi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MARTBoard Dem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ic Whiteboard Evaluation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esday, January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dnesday, January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arch Project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n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MARTBoard Technolog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3880" y="1371600"/>
          <a:ext cx="6000840" cy="4800600"/>
        </p:xfrm>
        <a:graphic>
          <a:graphicData uri="http://schemas.openxmlformats.org/drawingml/2006/table">
            <a:tbl>
              <a:tblPr/>
              <a:tblGrid>
                <a:gridCol w="2000520"/>
                <a:gridCol w="2000160"/>
                <a:gridCol w="2000160"/>
              </a:tblGrid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s. Blo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s. Yo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s. Wenri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. Bickha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S Jeopardy – Span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S Millionaire – Span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. Yo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s. Helbi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 Cl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9" name="Bloom.wmv" descr=""/>
          <p:cNvPicPr/>
          <p:nvPr/>
        </p:nvPicPr>
        <p:blipFill>
          <a:blip r:embed="rId1"/>
          <a:stretch/>
        </p:blipFill>
        <p:spPr>
          <a:xfrm>
            <a:off x="1712880" y="1549440"/>
            <a:ext cx="1592280" cy="1262160"/>
          </a:xfrm>
          <a:prstGeom prst="rect">
            <a:avLst/>
          </a:prstGeom>
          <a:ln w="0">
            <a:noFill/>
          </a:ln>
        </p:spPr>
      </p:pic>
      <p:pic>
        <p:nvPicPr>
          <p:cNvPr id="60" name="Wenrich.wmv" descr=""/>
          <p:cNvPicPr/>
          <p:nvPr/>
        </p:nvPicPr>
        <p:blipFill>
          <a:blip r:embed="rId2"/>
          <a:stretch/>
        </p:blipFill>
        <p:spPr>
          <a:xfrm>
            <a:off x="5702400" y="1549440"/>
            <a:ext cx="1674720" cy="1255680"/>
          </a:xfrm>
          <a:prstGeom prst="rect">
            <a:avLst/>
          </a:prstGeom>
          <a:ln w="0">
            <a:noFill/>
          </a:ln>
        </p:spPr>
      </p:pic>
      <p:pic>
        <p:nvPicPr>
          <p:cNvPr id="61" name="AMYost.wmv" descr=""/>
          <p:cNvPicPr/>
          <p:nvPr/>
        </p:nvPicPr>
        <p:blipFill>
          <a:blip r:embed="rId3"/>
          <a:stretch/>
        </p:blipFill>
        <p:spPr>
          <a:xfrm>
            <a:off x="3657600" y="1542960"/>
            <a:ext cx="1650960" cy="1238400"/>
          </a:xfrm>
          <a:prstGeom prst="rect">
            <a:avLst/>
          </a:prstGeom>
          <a:ln w="0">
            <a:noFill/>
          </a:ln>
        </p:spPr>
      </p:pic>
      <p:pic>
        <p:nvPicPr>
          <p:cNvPr id="62" name="Bickhart.wmv" descr=""/>
          <p:cNvPicPr/>
          <p:nvPr/>
        </p:nvPicPr>
        <p:blipFill>
          <a:blip r:embed="rId4"/>
          <a:stretch/>
        </p:blipFill>
        <p:spPr>
          <a:xfrm>
            <a:off x="1676520" y="3149640"/>
            <a:ext cx="1643040" cy="1231920"/>
          </a:xfrm>
          <a:prstGeom prst="rect">
            <a:avLst/>
          </a:prstGeom>
          <a:ln w="0">
            <a:noFill/>
          </a:ln>
        </p:spPr>
      </p:pic>
      <p:pic>
        <p:nvPicPr>
          <p:cNvPr id="63" name="Jeopardy.wmv" descr=""/>
          <p:cNvPicPr/>
          <p:nvPr/>
        </p:nvPicPr>
        <p:blipFill>
          <a:blip r:embed="rId5"/>
          <a:stretch/>
        </p:blipFill>
        <p:spPr>
          <a:xfrm>
            <a:off x="3657600" y="3152880"/>
            <a:ext cx="1666800" cy="1251000"/>
          </a:xfrm>
          <a:prstGeom prst="rect">
            <a:avLst/>
          </a:prstGeom>
          <a:ln w="0">
            <a:noFill/>
          </a:ln>
        </p:spPr>
      </p:pic>
      <p:pic>
        <p:nvPicPr>
          <p:cNvPr id="64" name="Millionaire.wmv" descr=""/>
          <p:cNvPicPr/>
          <p:nvPr/>
        </p:nvPicPr>
        <p:blipFill>
          <a:blip r:embed="rId6"/>
          <a:stretch/>
        </p:blipFill>
        <p:spPr>
          <a:xfrm>
            <a:off x="5715000" y="3162240"/>
            <a:ext cx="1676520" cy="1257480"/>
          </a:xfrm>
          <a:prstGeom prst="rect">
            <a:avLst/>
          </a:prstGeom>
          <a:ln w="0">
            <a:noFill/>
          </a:ln>
        </p:spPr>
      </p:pic>
      <p:pic>
        <p:nvPicPr>
          <p:cNvPr id="65" name="Audio1.wmv" descr=""/>
          <p:cNvPicPr/>
          <p:nvPr/>
        </p:nvPicPr>
        <p:blipFill>
          <a:blip r:embed="rId7"/>
          <a:stretch/>
        </p:blipFill>
        <p:spPr>
          <a:xfrm>
            <a:off x="5689440" y="4775040"/>
            <a:ext cx="1689120" cy="1266840"/>
          </a:xfrm>
          <a:prstGeom prst="rect">
            <a:avLst/>
          </a:prstGeom>
          <a:ln w="0">
            <a:noFill/>
          </a:ln>
        </p:spPr>
      </p:pic>
      <p:pic>
        <p:nvPicPr>
          <p:cNvPr id="66" name="Dave.wmv" descr=""/>
          <p:cNvPicPr/>
          <p:nvPr/>
        </p:nvPicPr>
        <p:blipFill>
          <a:blip r:embed="rId8"/>
          <a:stretch/>
        </p:blipFill>
        <p:spPr>
          <a:xfrm>
            <a:off x="1714680" y="4743360"/>
            <a:ext cx="1688760" cy="1266840"/>
          </a:xfrm>
          <a:prstGeom prst="rect">
            <a:avLst/>
          </a:prstGeom>
          <a:ln w="0">
            <a:noFill/>
          </a:ln>
        </p:spPr>
      </p:pic>
      <p:pic>
        <p:nvPicPr>
          <p:cNvPr id="67" name="Helbig.wmv" descr=""/>
          <p:cNvPicPr/>
          <p:nvPr/>
        </p:nvPicPr>
        <p:blipFill>
          <a:blip r:embed="rId9"/>
          <a:stretch/>
        </p:blipFill>
        <p:spPr>
          <a:xfrm>
            <a:off x="3670200" y="4762440"/>
            <a:ext cx="1714680" cy="128592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22:26:02Z</dcterms:created>
  <dc:creator>DASD</dc:creator>
  <dc:description/>
  <dc:language>en-US</dc:language>
  <cp:lastModifiedBy>daphnesnook</cp:lastModifiedBy>
  <dcterms:modified xsi:type="dcterms:W3CDTF">2010-01-25T23:21:40Z</dcterms:modified>
  <cp:revision>192</cp:revision>
  <dc:subject/>
  <dc:title>Slide 1</dc:title>
</cp:coreProperties>
</file>